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08B-B64A-43CF-BD3D-AE8F39EA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ABC-B7F6-47D9-84A7-DF7A731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5BE-CC24-4970-949B-AD95ABE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91E-E577-4388-A686-43BBF09D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F70-8E27-43B1-9450-C3EB1BB7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A02-8BD3-4307-8427-C0AF6B7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AC33-F95E-4D53-B2FD-F0BEC089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51BA-2B01-4A7C-89EB-532F142F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5E2-1E48-42DB-9E23-50C3B7A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EDC-B37C-4857-AC78-D12A216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463-01B1-42E7-8711-311EB09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B63-F261-48F3-BF9D-5DE3402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F96B-81B7-45DC-BA9B-103B2B6D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0720-BA74-48F2-8C75-7DE4803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A185-C1CD-4AFD-938E-84B8A7EA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08F9-7C78-46E0-AB8F-A09C34A1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1D7B-F699-4E8A-84AA-6AE08752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797-3251-4D0C-A6B4-91D79AA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DA8-8076-4559-A861-843E2D2B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F8C-149C-4758-B50C-198D192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8EF-022A-425A-8EE4-84568B32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7BB-8CC9-45BC-AB34-4E87147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F61-94B3-4778-9689-126E385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0DD-A3C4-4DF0-8794-70A93BC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79C3-AB7B-41B4-94A6-446DF3AB24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CB26-0CD2-4EFF-BA1A-676939BB39A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7392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Times New Roman"/>
              </a:rPr>
              <a:t>РАБОТА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Times New Roman"/>
              </a:rPr>
              <a:t> С ОДАРЕННЫМИ ДЕТЬМИ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</a:t>
            </a:r>
            <a:br>
              <a:rPr sz="6600"/>
            </a:br>
            <a:br>
              <a:rPr sz="6600"/>
            </a:br>
            <a:br>
              <a:rPr sz="3600"/>
            </a:b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br>
              <a:rPr sz="66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полнила учитель физики высшей квалификационной категории МБОУ АСОШ №2  Набиева Фидания Рависовна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57240" y="214200"/>
            <a:ext cx="7072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4"/>
                </a:solidFill>
                <a:latin typeface="Times New Roman"/>
              </a:rPr>
              <a:t>Ниже даны личностные и деловые качества учеников.  Отметьте знаком (+) те качества, которые Вам нравятся в учениках, а знаком (-) те, что не нравятся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4200" y="128592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сциплинир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 Неровно успевающ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 Организ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. Выбивающийся из общего темп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. Эрудир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6. Странный в поведении, непонят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7. Умеющий поддержать общее дело (коллективист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8. Выскакивающий на уроке с нелепыми замечаниям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9. Стабильно успевающий (всегда хорошо учится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0. Занятый своими делами (индивидуалист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1. Быстро, на лету схватывающ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. Не умеющий общаться, конфликт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3. Общающийся легко, приятный в общен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4. Иногда тугодум, не может понять очевидного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5. Ясно, понятно для всех выражающий свои мысли и цели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6. Не всегда подчиняющийся большинству или официальному руководств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6438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4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Качества, чаще всего характеризующие одарённых детей</a:t>
            </a:r>
            <a:r>
              <a:rPr b="1" lang="ru-RU" sz="2500" spc="-1" strike="noStrike">
                <a:solidFill>
                  <a:srgbClr val="ffffc4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5480" y="1500120"/>
            <a:ext cx="65149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ровно успевающи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Выбивающийся из общего темп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Странный в поведении, непонятны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 умеющий общаться, конфликтны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Иногда тугодум, не может понять очевидного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 всегда подчиняющийся большинству или официальному руковод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8" descr="http://t1.gstatic.com/images?q=tbn:ANd9GcQluaFwWJN3A-YrrNrrrDm0CkZNIfRPQtqkSKbLpcE0RPbaX8uxRg"/>
          <p:cNvPicPr/>
          <p:nvPr/>
        </p:nvPicPr>
        <p:blipFill>
          <a:blip r:embed="rId1"/>
          <a:stretch/>
        </p:blipFill>
        <p:spPr>
          <a:xfrm>
            <a:off x="6643800" y="1227240"/>
            <a:ext cx="2365200" cy="32734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071720" y="5559480"/>
            <a:ext cx="80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Это в большей мере относится    к творчески одарённым.  Творческа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дарённость - большое счастье и испытание для обладателей этого дара, и для учителей и родителей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00160" y="14256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Проблемы одаренных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4200" y="1526760"/>
            <a:ext cx="8591760" cy="51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мериканский психолог Б. Карне, кроме достоинств, отмечает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проблемы одаренных детей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приязнь к школ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гровые интерес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нформность (отрицание стандартных требован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гружение в философские проблем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соответствие между физическим, интеллектуальным и социальным развитие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тремление к совершен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щущение неудовлетворен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еалистические цел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верхчувствительность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требность во внимании взрослых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терпимость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изкая продолжительность с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http://t1.gstatic.com/images?q=tbn:ANd9GcRH4Yc51Dw2ebehWBb_rdIUuXE9bPi7_zr9WH1GHH4aplHkfuTkXw"/>
          <p:cNvPicPr/>
          <p:nvPr/>
        </p:nvPicPr>
        <p:blipFill>
          <a:blip r:embed="rId1"/>
          <a:stretch/>
        </p:blipFill>
        <p:spPr>
          <a:xfrm>
            <a:off x="5972040" y="4037040"/>
            <a:ext cx="288612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43080" y="214200"/>
            <a:ext cx="6572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блемы обучения  одарённых учащихс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428840"/>
            <a:ext cx="87138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оло 30 % отчисленных из школы за академическую неуспеваемость составляют одарённые дети (Гильбух Ю.3., 1991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оло 30% отчисленных из средних школ за неспособность к обучению, неуспеваемость и даже глупость составляют одарённые и сверходарённые дети (Матюшкин А.М., Сиск Д.А., 1988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школах Великобритании при идентификации одарённых детей особое внимание уделяют неуспевающим школьникам и школьникам с проблемами в поведении, так как в этой группе детей процент одарённых оказывается наиболее высоким (Сергеева Н.И., 1990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431640">
              <a:spcBef>
                <a:spcPts val="601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5960" y="0"/>
            <a:ext cx="72151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59"/>
                </a:solidFill>
                <a:latin typeface="Times New Roman"/>
              </a:rPr>
              <a:t>Формы работы по обучению интеллектуально одаренных детей в условиях общеобразовательной школ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индивидуальный подход на уроках, использование в практике элементов дифференцированного обучени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активные формы обучени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дополнительные занятия с одарёнными детьми по предмета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участие в школьных и районных олимпиадах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проектная деятельность обучающихс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научно-исследовательская деятельность  обучающихс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посещение предметных и творческих кружков, внеклассных мероприятий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конкурсы, интеллектуальные игры, викторины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создание детских портфолио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3"/>
          <p:cNvSpPr/>
          <p:nvPr/>
        </p:nvSpPr>
        <p:spPr>
          <a:xfrm>
            <a:off x="187200" y="1357200"/>
            <a:ext cx="3456000" cy="221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ть так, чтоб ребенок почувствовал себя признанным и востребованным. Научить  конструктивно строить отношения с ровесниками и взрослыми людьм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Прямоугольник 2" descr=""/>
          <p:cNvPicPr/>
          <p:nvPr/>
        </p:nvPicPr>
        <p:blipFill>
          <a:blip r:embed="rId1"/>
          <a:stretch/>
        </p:blipFill>
        <p:spPr>
          <a:xfrm>
            <a:off x="785880" y="0"/>
            <a:ext cx="786276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5"/>
          <p:cNvSpPr/>
          <p:nvPr/>
        </p:nvSpPr>
        <p:spPr>
          <a:xfrm>
            <a:off x="258840" y="3714840"/>
            <a:ext cx="338436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ть интеллектуальнаую нагрузку, излагая интересные факты, используя ИКТ, продумывая персональные задания, задания на выбор, интегрированные задания. Все, чтобы развивать познавательную активности этих дете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3745080" y="1357200"/>
            <a:ext cx="511308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знание таким детям необходимо для успеха. Потому создание ситуаций успеха – необходимое условие для развития одарен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7"/>
          <p:cNvSpPr/>
          <p:nvPr/>
        </p:nvSpPr>
        <p:spPr>
          <a:xfrm>
            <a:off x="3745080" y="2857680"/>
            <a:ext cx="5113080" cy="12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бходимая стимуляция: доска почета, ведение портфолио учащихся, интеллектуальные встречи, брейн-ринги, конкурсы, на ряду с обучением саморегуляци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3757680" y="4286160"/>
            <a:ext cx="367200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внешкольной занятости ребенка. Развитие социальных и коммуникативных навыков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3759120" y="5715000"/>
            <a:ext cx="3456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бедиться в том, что у ребенка нет нервозов, перед тем, как начинать развивающую работ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Рисунок 10" descr="g0120150.WMF"/>
          <p:cNvPicPr/>
          <p:nvPr/>
        </p:nvPicPr>
        <p:blipFill>
          <a:blip r:embed="rId2"/>
          <a:stretch/>
        </p:blipFill>
        <p:spPr>
          <a:xfrm>
            <a:off x="6905520" y="4286160"/>
            <a:ext cx="25894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14720" y="-360"/>
            <a:ext cx="692928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ребования к личности учителя, работающего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 одарёнными учащимися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5" descr="http://im8-tub-ru.yandex.net/i?id=290734816-33-72"/>
          <p:cNvPicPr/>
          <p:nvPr/>
        </p:nvPicPr>
        <p:blipFill>
          <a:blip r:embed="rId1"/>
          <a:stretch/>
        </p:blipFill>
        <p:spPr>
          <a:xfrm>
            <a:off x="3500280" y="1285920"/>
            <a:ext cx="2718000" cy="3471840"/>
          </a:xfrm>
          <a:prstGeom prst="rect">
            <a:avLst/>
          </a:prstGeom>
          <a:ln w="0">
            <a:noFill/>
          </a:ln>
        </p:spPr>
      </p:pic>
      <p:sp>
        <p:nvSpPr>
          <p:cNvPr id="200" name="Овальная выноска 5"/>
          <p:cNvSpPr/>
          <p:nvPr/>
        </p:nvSpPr>
        <p:spPr>
          <a:xfrm>
            <a:off x="6500880" y="2357280"/>
            <a:ext cx="2371680" cy="1562400"/>
          </a:xfrm>
          <a:prstGeom prst="wedgeEllipseCallout">
            <a:avLst>
              <a:gd name="adj1" fmla="val -104305"/>
              <a:gd name="adj2" fmla="val 28925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влечённость своим дело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Овальная выноска 6"/>
          <p:cNvSpPr/>
          <p:nvPr/>
        </p:nvSpPr>
        <p:spPr>
          <a:xfrm>
            <a:off x="6500880" y="714240"/>
            <a:ext cx="2286000" cy="1643040"/>
          </a:xfrm>
          <a:prstGeom prst="wedgeEllipseCallout">
            <a:avLst>
              <a:gd name="adj1" fmla="val -76120"/>
              <a:gd name="adj2" fmla="val 45125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елание работать нестандартн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Овальная выноска 7"/>
          <p:cNvSpPr/>
          <p:nvPr/>
        </p:nvSpPr>
        <p:spPr>
          <a:xfrm>
            <a:off x="428760" y="3795840"/>
            <a:ext cx="2101680" cy="1562040"/>
          </a:xfrm>
          <a:prstGeom prst="wedgeEllipseCallout">
            <a:avLst>
              <a:gd name="adj1" fmla="val 113944"/>
              <a:gd name="adj2" fmla="val -37504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нание психологии одарённых учащихс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Овальная выноска 8"/>
          <p:cNvSpPr/>
          <p:nvPr/>
        </p:nvSpPr>
        <p:spPr>
          <a:xfrm>
            <a:off x="5857920" y="5081760"/>
            <a:ext cx="2928960" cy="1776240"/>
          </a:xfrm>
          <a:prstGeom prst="wedgeEllipseCallout">
            <a:avLst>
              <a:gd name="adj1" fmla="val -47500"/>
              <a:gd name="adj2" fmla="val -111532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юбознатель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Овальная выноска 9"/>
          <p:cNvSpPr/>
          <p:nvPr/>
        </p:nvSpPr>
        <p:spPr>
          <a:xfrm>
            <a:off x="500040" y="5295960"/>
            <a:ext cx="2979720" cy="1562040"/>
          </a:xfrm>
          <a:prstGeom prst="wedgeEllipseCallout">
            <a:avLst>
              <a:gd name="adj1" fmla="val 58685"/>
              <a:gd name="adj2" fmla="val -105921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рудирован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Овальная выноска 10"/>
          <p:cNvSpPr/>
          <p:nvPr/>
        </p:nvSpPr>
        <p:spPr>
          <a:xfrm>
            <a:off x="6843600" y="3867120"/>
            <a:ext cx="1830600" cy="1562040"/>
          </a:xfrm>
          <a:prstGeom prst="wedgeEllipseCallout">
            <a:avLst>
              <a:gd name="adj1" fmla="val -86777"/>
              <a:gd name="adj2" fmla="val -46453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исковая актив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Овальная выноска 11"/>
          <p:cNvSpPr/>
          <p:nvPr/>
        </p:nvSpPr>
        <p:spPr>
          <a:xfrm>
            <a:off x="0" y="1857240"/>
            <a:ext cx="3003480" cy="2136960"/>
          </a:xfrm>
          <a:prstGeom prst="wedgeEllipseCallout">
            <a:avLst>
              <a:gd name="adj1" fmla="val 81282"/>
              <a:gd name="adj2" fmla="val 5726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тивационная готовность к работе с одарёнными учащимис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Овальная выноска 12"/>
          <p:cNvSpPr/>
          <p:nvPr/>
        </p:nvSpPr>
        <p:spPr>
          <a:xfrm>
            <a:off x="0" y="0"/>
            <a:ext cx="2500200" cy="1919160"/>
          </a:xfrm>
          <a:prstGeom prst="wedgeEllipseCallout">
            <a:avLst>
              <a:gd name="adj1" fmla="val 101351"/>
              <a:gd name="adj2" fmla="val 51263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равствен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Овальная выноска 13"/>
          <p:cNvSpPr/>
          <p:nvPr/>
        </p:nvSpPr>
        <p:spPr>
          <a:xfrm>
            <a:off x="3571920" y="5081760"/>
            <a:ext cx="2214360" cy="1562040"/>
          </a:xfrm>
          <a:prstGeom prst="wedgeEllipseCallout">
            <a:avLst>
              <a:gd name="adj1" fmla="val 17953"/>
              <a:gd name="adj2" fmla="val -105921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нание всех областей человеческой жизн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23640" y="587520"/>
            <a:ext cx="68547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иагностические этапы выявления одаренных учащихся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698508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Номинация (называние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— имена кандидатов в одаренны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Выявление проявлений одаренност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поведении и разных видах деятельности учащегося на основании данных наблюдений, рейтинговых шкал, ответов на анкеты и т.п.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Изучение услови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и истории развития учащегося в семье, его интересов, увлечений — сведения о семье, о раннем развитии ребенка, о его интересах и необычных способностях с помощью опросников и интервь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69282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фессиональные умения учителя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676908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троить обучение в соответствии с результатами диагностического обследования ребенк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модифицировать учебные программ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тимулировать когнитивные способности учащихся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работать по специальному учебному плану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консультировать учащихся и родител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82956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Личностные качества учителя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34920" y="1125000"/>
            <a:ext cx="662436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оздать благоприятную атмосферу работы с деть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оброжелательность: одаренные дети наиболее восприимчив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пособность формировать учебную мотивацию различными способами:  создавать ситуацию успеха, учитывать интересы и способности  ребён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экспериментировать на урок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емление к учебному сотрудничеству: ребенок  становится партнёром учителя, субъектом учебной деятельности, активно проявляет инициативу и самостоятельнос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2357280" y="500040"/>
            <a:ext cx="5715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Актуальность 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аспознав свои таланты, дети с их особыми нуждами, независимо от тех проблем и ограничений, с которыми они сталкиваются, всегда могут внести в общество свой собственный вклад. 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ефани Дезибу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Проблема одаренности в настоящее время становится все более актуальной. Это, прежде всего, связано </a:t>
            </a:r>
            <a:r>
              <a:rPr b="1" i="1" lang="ru-RU" sz="2500" spc="-1" strike="noStrike">
                <a:solidFill>
                  <a:srgbClr val="eaeaea"/>
                </a:solidFill>
                <a:latin typeface="Times New Roman"/>
              </a:rPr>
              <a:t>с потребностью общества в неординарной творческой личности.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Раннее выявление, обучение и воспитание одаренных и талантливых детей составляет одну их главных проблем </a:t>
            </a:r>
            <a:r>
              <a:rPr b="1" i="1" lang="ru-RU" sz="2500" spc="-1" strike="noStrike">
                <a:solidFill>
                  <a:srgbClr val="eaeaea"/>
                </a:solidFill>
                <a:latin typeface="Times New Roman"/>
              </a:rPr>
              <a:t>совершенствования системы образования.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Бытует мнение, что одаренные дети не нуждаются в помощи взрослых, в особом внимании и руководстве. Однако в силу личностных особенностей такие дети наиболее чувствительны к оценке их деятельности, поведения и мышления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ОРМЫ РАБОТЫ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59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лимпиады по предметам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о-практические конференци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ыступления и доклад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ктивная внеклассная работ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едметные недел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чера, конкурсы, олимпиады, КВН, викторины, аукцио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левые игр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5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ОРМЫ РАБОТЫ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лассно-урочная (работа в парах, в малых группах), разноуровневые задания, творческие задания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нсультирование по возникшей проблем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ые кружки, обществ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искуссии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теллектуальные марафо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личные конкурсы и виктори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ловесные игры и забав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екты по различной тематик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6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3640" y="515520"/>
            <a:ext cx="685476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Перспективы развития: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ортрет одарённого ребёнка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676908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арённые дет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резвычайно любопытны в отношении того, как устроен тот или иной предмет. Они способны следить за несколькими процессами одновременно и склонны активно исследовать всё окружающе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способностью воспринимать связи между явлениями и предметами и делать соответствующие выводы; им нравится в своём воображении создавать альтернативные системы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тличаются прекрасной памятью в сочетании с ранним языковым развитием и способностью к классификаци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большим словарным запасо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 терпят, когда им навязывают готовый ответ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еют обострённое чувство справедливости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дъявляют высокие требования к себе и окружающи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отличным чувством юмор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едко у них развивается негативное самовосприятие, возникают трудности в общении со сверстник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019240" y="1571760"/>
          <a:ext cx="6767640" cy="5168880"/>
        </p:xfrm>
        <a:graphic>
          <a:graphicData uri="http://schemas.openxmlformats.org/drawingml/2006/table">
            <a:tbl>
              <a:tblPr/>
              <a:tblGrid>
                <a:gridCol w="546120"/>
                <a:gridCol w="2524320"/>
                <a:gridCol w="1427040"/>
                <a:gridCol w="227016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Ая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сламов Ильну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сламов Ильми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Русте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(отличн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йбуллин Рамил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исамов Илья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мсиев Дани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"/>
          <p:cNvSpPr/>
          <p:nvPr/>
        </p:nvSpPr>
        <p:spPr>
          <a:xfrm>
            <a:off x="1857240" y="43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0 - 2011 учебном  году учени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-х классов   сдавали экзамен по физике с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ющими результатам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28800" y="1471680"/>
          <a:ext cx="8001000" cy="5634000"/>
        </p:xfrm>
        <a:graphic>
          <a:graphicData uri="http://schemas.openxmlformats.org/drawingml/2006/table">
            <a:tbl>
              <a:tblPr/>
              <a:tblGrid>
                <a:gridCol w="645840"/>
                <a:gridCol w="2982960"/>
                <a:gridCol w="1689120"/>
                <a:gridCol w="2683080"/>
              </a:tblGrid>
              <a:tr h="85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родавкин Валер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Инсаф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намов Руша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лиев Гаде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аев Рази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аева Айсыл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Рами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мазов Алм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итов И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тавалов Ильга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лыев Ильф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ков Ильд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уснуллина Гу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1785960" y="504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0 - 2011 учебном  году учени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-х классов   сдавали ЕГЭ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71840" y="1071720"/>
          <a:ext cx="5643360" cy="3249360"/>
        </p:xfrm>
        <a:graphic>
          <a:graphicData uri="http://schemas.openxmlformats.org/drawingml/2006/table">
            <a:tbl>
              <a:tblPr/>
              <a:tblGrid>
                <a:gridCol w="468360"/>
                <a:gridCol w="2090520"/>
                <a:gridCol w="1192320"/>
                <a:gridCol w="1892160"/>
              </a:tblGrid>
              <a:tr h="84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ултдинова Гузель 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2"/>
          <p:cNvSpPr/>
          <p:nvPr/>
        </p:nvSpPr>
        <p:spPr>
          <a:xfrm>
            <a:off x="2071800" y="216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   2011-2012    учебный  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57280" y="5572080"/>
          <a:ext cx="5715000" cy="946080"/>
        </p:xfrm>
        <a:graphic>
          <a:graphicData uri="http://schemas.openxmlformats.org/drawingml/2006/table">
            <a:tbl>
              <a:tblPr/>
              <a:tblGrid>
                <a:gridCol w="474840"/>
                <a:gridCol w="2117880"/>
                <a:gridCol w="1206360"/>
                <a:gridCol w="19159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рзин Алма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3"/>
          <p:cNvSpPr/>
          <p:nvPr/>
        </p:nvSpPr>
        <p:spPr>
          <a:xfrm>
            <a:off x="2143080" y="42886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      астрономии      за   2011-2012 учебный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022480" y="1785960"/>
          <a:ext cx="6621480" cy="2597040"/>
        </p:xfrm>
        <a:graphic>
          <a:graphicData uri="http://schemas.openxmlformats.org/drawingml/2006/table">
            <a:tbl>
              <a:tblPr/>
              <a:tblGrid>
                <a:gridCol w="549360"/>
                <a:gridCol w="2454120"/>
                <a:gridCol w="1397160"/>
                <a:gridCol w="222084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 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3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киров Рами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"/>
          <p:cNvSpPr/>
          <p:nvPr/>
        </p:nvSpPr>
        <p:spPr>
          <a:xfrm>
            <a:off x="1857240" y="5040"/>
            <a:ext cx="70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1 - 2012 учебном  году ученики 9-х классов сдавали ГИА по физике 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785880" y="1785960"/>
          <a:ext cx="8121600" cy="5265720"/>
        </p:xfrm>
        <a:graphic>
          <a:graphicData uri="http://schemas.openxmlformats.org/drawingml/2006/table">
            <a:tbl>
              <a:tblPr/>
              <a:tblGrid>
                <a:gridCol w="655560"/>
                <a:gridCol w="3029040"/>
                <a:gridCol w="1712880"/>
                <a:gridCol w="2724120"/>
              </a:tblGrid>
              <a:tr h="105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дретдинов Алма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1 балл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етова Али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усманов Ире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9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тин Руста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лимзянов Ильда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Ризв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лиев Русл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рваров Ая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етухов Серге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ипянов Наси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5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1857240" y="5040"/>
            <a:ext cx="70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 2011 - 2012 учебном  году ученики 11-х классов сдавали ЕГЭ по физике 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143080" y="1214280"/>
          <a:ext cx="6500880" cy="2452680"/>
        </p:xfrm>
        <a:graphic>
          <a:graphicData uri="http://schemas.openxmlformats.org/drawingml/2006/table">
            <a:tbl>
              <a:tblPr/>
              <a:tblGrid>
                <a:gridCol w="539640"/>
                <a:gridCol w="2436840"/>
                <a:gridCol w="1344600"/>
                <a:gridCol w="2179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рахманов Дина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143080" y="5143680"/>
          <a:ext cx="6429600" cy="1401480"/>
        </p:xfrm>
        <a:graphic>
          <a:graphicData uri="http://schemas.openxmlformats.org/drawingml/2006/table">
            <a:tbl>
              <a:tblPr/>
              <a:tblGrid>
                <a:gridCol w="533520"/>
                <a:gridCol w="2382840"/>
                <a:gridCol w="1357200"/>
                <a:gridCol w="21560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рзин Алм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2"/>
          <p:cNvSpPr/>
          <p:nvPr/>
        </p:nvSpPr>
        <p:spPr>
          <a:xfrm>
            <a:off x="1857240" y="14616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2-2013 учебный год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2643120" y="3786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астрономии      за 2012-2013 учебный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928880" y="1481040"/>
          <a:ext cx="6692760" cy="5483160"/>
        </p:xfrm>
        <a:graphic>
          <a:graphicData uri="http://schemas.openxmlformats.org/drawingml/2006/table">
            <a:tbl>
              <a:tblPr/>
              <a:tblGrid>
                <a:gridCol w="555480"/>
                <a:gridCol w="2479680"/>
                <a:gridCol w="1413000"/>
                <a:gridCol w="2244600"/>
              </a:tblGrid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зизов Руша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хматнабиева Лей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гматуллин Айда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"/>
          <p:cNvSpPr/>
          <p:nvPr/>
        </p:nvSpPr>
        <p:spPr>
          <a:xfrm>
            <a:off x="1785960" y="43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тура  межрегиональной олимпиады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Будущее большой химии» по физик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2-2013 учебный год: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19640" y="404640"/>
            <a:ext cx="547344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циональная образовательная инициатив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Наша новая школа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2920" y="1785960"/>
            <a:ext cx="8858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разделе «Развитие системы поддержки талантливых детей» Национальной образовательной инициативы «Наша новая школа» говорится следующее: «</a:t>
            </a:r>
            <a:r>
              <a:rPr b="1" i="1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ближайшие годы в России будет выстроена разветвленная система поиска, поддержки и сопровождения талантливых детей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обходимо развивать творческую среду для выявления особо одаренных ребят в каждой общеобразовательной школе. Старшеклассникам нужно предоставить возможность обучения в заочных, очно-заочных и дистанционных школах, позволяющих им независимо от места проживания осваивать программы профильной подготовки. Требуется развивать систему олимпиад и конкурсов школьников, практику дополнительного образования, отработать механизмы учета индивидуальных достижений школьников при приеме в вузы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дновременно следует развивать систему поддержки сформировавшихся талантливых детей. Это, прежде всего, образовательные учреждения круглосуточного пребывания. Для ребят, проявивших свои таланты в различных областях деятельности, будут организованы слеты, летние и зимние школы, конференции, семинары и другие мероприятия, поддерживающие сформировавшуюся одаренность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одаренными детьми должна быть экономически целесообразной. Норматив подушевого финансирования следует определять в соответствии с особенностями школьников, а не только образовательного учреждения. Учитель, благодаря которому школьник добился высоких результатов, должен получать значительные стимулирующие выплаты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каз №271от 04.02.2010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349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2" descr="Картинка 489 из 13167"/>
          <p:cNvPicPr/>
          <p:nvPr/>
        </p:nvPicPr>
        <p:blipFill>
          <a:blip r:embed="rId1"/>
          <a:stretch/>
        </p:blipFill>
        <p:spPr>
          <a:xfrm>
            <a:off x="1071720" y="142920"/>
            <a:ext cx="235728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214280" y="1714680"/>
          <a:ext cx="7929720" cy="5257800"/>
        </p:xfrm>
        <a:graphic>
          <a:graphicData uri="http://schemas.openxmlformats.org/drawingml/2006/table">
            <a:tbl>
              <a:tblPr/>
              <a:tblGrid>
                <a:gridCol w="640080"/>
                <a:gridCol w="2957400"/>
                <a:gridCol w="1673280"/>
                <a:gridCol w="26589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ултдинова Гузель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килов Рам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льданова Гульназ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Заги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иахметов Ригин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ертдинова Гульф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к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0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А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флитунов Ден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тдинов И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0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удайбердиев Юсу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"/>
          <p:cNvSpPr/>
          <p:nvPr/>
        </p:nvSpPr>
        <p:spPr>
          <a:xfrm>
            <a:off x="1785960" y="43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 2012 - 2013 учебном  году ученики 9-х классов сдавали ГИА по физике со следующими      результатам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642960" y="1500120"/>
          <a:ext cx="8072280" cy="4965840"/>
        </p:xfrm>
        <a:graphic>
          <a:graphicData uri="http://schemas.openxmlformats.org/drawingml/2006/table">
            <a:tbl>
              <a:tblPr/>
              <a:tblGrid>
                <a:gridCol w="650880"/>
                <a:gridCol w="3009960"/>
                <a:gridCol w="1703160"/>
                <a:gridCol w="2708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 Д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ипов Айги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Ая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0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Ире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Русте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гматуллин Айд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лахов Бул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йдаров Рузали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мсиев Дан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афетдинова Гузе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ипов Айну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Мар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"/>
          <p:cNvSpPr/>
          <p:nvPr/>
        </p:nvSpPr>
        <p:spPr>
          <a:xfrm>
            <a:off x="1785960" y="5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2 - 2013 учебном  году учени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-х классов сдавали ЕГЭ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428840" y="1500120"/>
          <a:ext cx="7429320" cy="1592280"/>
        </p:xfrm>
        <a:graphic>
          <a:graphicData uri="http://schemas.openxmlformats.org/drawingml/2006/table">
            <a:tbl>
              <a:tblPr/>
              <a:tblGrid>
                <a:gridCol w="1071360"/>
                <a:gridCol w="2706840"/>
                <a:gridCol w="1409760"/>
                <a:gridCol w="2241360"/>
              </a:tblGrid>
              <a:tr h="34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рахманов Дина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571760" y="4357800"/>
          <a:ext cx="7072200" cy="1566720"/>
        </p:xfrm>
        <a:graphic>
          <a:graphicData uri="http://schemas.openxmlformats.org/drawingml/2006/table">
            <a:tbl>
              <a:tblPr/>
              <a:tblGrid>
                <a:gridCol w="1071360"/>
                <a:gridCol w="2838600"/>
                <a:gridCol w="1220760"/>
                <a:gridCol w="1941480"/>
              </a:tblGrid>
              <a:tr h="97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мирова Айзи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"/>
          <p:cNvSpPr/>
          <p:nvPr/>
        </p:nvSpPr>
        <p:spPr>
          <a:xfrm>
            <a:off x="1928880" y="3592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3-2014 учебный год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000160" y="335772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астроном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 2013-2014  учебный год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57120" y="1643040"/>
          <a:ext cx="8786880" cy="4929120"/>
        </p:xfrm>
        <a:graphic>
          <a:graphicData uri="http://schemas.openxmlformats.org/drawingml/2006/table">
            <a:tbl>
              <a:tblPr/>
              <a:tblGrid>
                <a:gridCol w="728640"/>
                <a:gridCol w="2944800"/>
                <a:gridCol w="1084320"/>
                <a:gridCol w="4029120"/>
              </a:tblGrid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а Алс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шфиева Дильб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маев Ай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бироа Д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А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йбашева Оле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леева Нур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отличные результа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Айбул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отличные результа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мирова Айзи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"/>
          <p:cNvSpPr/>
          <p:nvPr/>
        </p:nvSpPr>
        <p:spPr>
          <a:xfrm>
            <a:off x="1928880" y="-147240"/>
            <a:ext cx="7215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всероссийской дистанционной интернет - олимпиады школьников по физике (Санкт-Петербургский национально исследовательский университет Информационных Технологий, Механики и Оптики) за 2013-2014 учебный год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-7920"/>
            <a:ext cx="7358040" cy="13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59"/>
                </a:solidFill>
                <a:latin typeface="Times New Roman"/>
              </a:rPr>
              <a:t>К любому ребёнку следует относиться с надеждой </a:t>
            </a:r>
            <a:br>
              <a:rPr sz="2400"/>
            </a:br>
            <a:r>
              <a:rPr b="1" lang="ru-RU" sz="2400" spc="-1" strike="noStrike">
                <a:solidFill>
                  <a:srgbClr val="ffff59"/>
                </a:solidFill>
                <a:latin typeface="Times New Roman"/>
              </a:rPr>
              <a:t>и ожиданием...”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786040" y="1571400"/>
            <a:ext cx="433872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786040" y="1530360"/>
            <a:ext cx="43387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357200" y="1164600"/>
            <a:ext cx="692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1.     Бахмутский А.Е. Школьная система мониторинга качества образ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Псков: АНО «Центр социального проектирования «Возрождение» , 2004. – 96 с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2.     Иванов Б. Н. Современная физика в школе: Методическое пособие. – М.: БИНОМ, 200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3.     Необычные учебные материалы по физике: задачи, тесты,        практические работы, книжка для чтения и раздумий/ Сост. Э. М. Браверман. М.: Школа-Пресс. 2000. 80с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(Библиотека журнала «Физика в школе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Вып. 16)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4.     Пойа Д. Как решать задачу. - М.: Учпедгиз, 196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5.     Интернет-материа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6.     Федотова Н. К. Из опыта работы с одаренными детьми / Н. К. Федотова 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/ Вестник НГУ. Серия: Педагогика 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Новосиб гос ун-т. — 2008. — Т. 9, вып. 1. — С. 53 — 56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3267720" y="3571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59"/>
                </a:solidFill>
                <a:latin typeface="Calibri"/>
                <a:ea typeface="Times New Roman"/>
              </a:rPr>
              <a:t>Список использованной литературы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2580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buClr>
                <a:srgbClr val="ffff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4"/>
                </a:solidFill>
                <a:latin typeface="Times New Roman"/>
              </a:rPr>
              <a:t>Все одарённые учатся легко и быстро</a:t>
            </a:r>
            <a:r>
              <a:rPr b="0" lang="ru-RU" sz="2400" spc="-1" strike="noStrike">
                <a:solidFill>
                  <a:srgbClr val="ffffc4"/>
                </a:solidFill>
                <a:latin typeface="Times New Roman"/>
              </a:rPr>
              <a:t>! (стереотип  особенно распространён в учительской среде). Лёгкая обучаемость относится к одарённости, но это лишь один из её видов (далеко не самый продуктивный потом, во взрослой жизни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1143000" y="3000240"/>
            <a:ext cx="4143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eaeaea"/>
                </a:solidFill>
                <a:latin typeface="Times New Roman"/>
              </a:rPr>
              <a:t>Великий Альберт Эйнштейн не был утешением и надеждой родителей и гордостью учителей. Многие учителя считали его неспособным, и за неуспеваемость (правда, не по математике, как иногда сообщается) он был исключен из гимназии. Кстати сказать, при достаточно благонравном поведении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5" descr="Картинка 11 из 120901"/>
          <p:cNvPicPr/>
          <p:nvPr/>
        </p:nvPicPr>
        <p:blipFill>
          <a:blip r:embed="rId1"/>
          <a:stretch/>
        </p:blipFill>
        <p:spPr>
          <a:xfrm>
            <a:off x="5715000" y="2428920"/>
            <a:ext cx="278604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0920" y="587520"/>
            <a:ext cx="656748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Одаренность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49480" y="1905120"/>
            <a:ext cx="638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это общая способность, раскрывающаяся в более высоких результатах при выполнении заданий, а также способность в различных областях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9640" y="587520"/>
            <a:ext cx="66387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Талант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68360" y="1905120"/>
            <a:ext cx="616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это необычная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пособность в какой-либо узкой специфической области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9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9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9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9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5" name="AutoShape 16"/>
          <p:cNvCxnSpPr>
            <a:stCxn id="116" idx="2"/>
            <a:endCxn id="117" idx="0"/>
          </p:cNvCxnSpPr>
          <p:nvPr/>
        </p:nvCxnSpPr>
        <p:spPr>
          <a:xfrm rot="5400000">
            <a:off x="2877480" y="2755440"/>
            <a:ext cx="849960" cy="2539080"/>
          </a:xfrm>
          <a:prstGeom prst="bentConnector3">
            <a:avLst>
              <a:gd name="adj1" fmla="val 50466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18" name="AutoShape 17"/>
          <p:cNvCxnSpPr>
            <a:stCxn id="116" idx="2"/>
            <a:endCxn id="119" idx="0"/>
          </p:cNvCxnSpPr>
          <p:nvPr/>
        </p:nvCxnSpPr>
        <p:spPr>
          <a:xfrm flipH="1" rot="16200000">
            <a:off x="5410080" y="2761200"/>
            <a:ext cx="861120" cy="2539080"/>
          </a:xfrm>
          <a:prstGeom prst="bentConnector3">
            <a:avLst>
              <a:gd name="adj1" fmla="val 50522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0" name="AutoShape 18"/>
          <p:cNvCxnSpPr>
            <a:stCxn id="116" idx="0"/>
            <a:endCxn id="121" idx="2"/>
          </p:cNvCxnSpPr>
          <p:nvPr/>
        </p:nvCxnSpPr>
        <p:spPr>
          <a:xfrm flipV="1" rot="16200000">
            <a:off x="2972880" y="1632960"/>
            <a:ext cx="659520" cy="2539080"/>
          </a:xfrm>
          <a:prstGeom prst="bentConnector3">
            <a:avLst>
              <a:gd name="adj1" fmla="val 5057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6" idx="0"/>
            <a:endCxn id="123" idx="2"/>
          </p:cNvCxnSpPr>
          <p:nvPr/>
        </p:nvCxnSpPr>
        <p:spPr>
          <a:xfrm flipH="1" flipV="1" rot="5400000">
            <a:off x="5498640" y="1620360"/>
            <a:ext cx="684720" cy="2539080"/>
          </a:xfrm>
          <a:prstGeom prst="bentConnector3">
            <a:avLst>
              <a:gd name="adj1" fmla="val 50552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16" name="Rectangle 12"/>
          <p:cNvSpPr/>
          <p:nvPr/>
        </p:nvSpPr>
        <p:spPr>
          <a:xfrm>
            <a:off x="289080" y="3232080"/>
            <a:ext cx="8564400" cy="368280"/>
          </a:xfrm>
          <a:prstGeom prst="rect">
            <a:avLst/>
          </a:prstGeom>
          <a:solidFill>
            <a:srgbClr val="ffff9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СФЕРЫ ДЕЯТЕЛЬНОСТИ ОРГАНИЗАТОРОВ ОБРАЗОВАТЕЛЬНОГО ПРОЦЕСС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076720" y="4470480"/>
            <a:ext cx="4067280" cy="2387520"/>
          </a:xfrm>
          <a:prstGeom prst="rect">
            <a:avLst/>
          </a:prstGeom>
          <a:solidFill>
            <a:srgbClr val="ffff9e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КЛАССНЫЕ РУКОВОДИТЕЛИ 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РУКОВОДИТЕЛИ ОБЪЕДИНЕНИЙ Д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ыявление одарённых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формление в дневниках классных руководителей сводно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блицы по видам (областям) одарённости дете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нирование воспитательной работы в классе с учётом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еализации одарёнными детьми класса своих способнос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творческих отчётов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4457880"/>
            <a:ext cx="4067280" cy="240012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УЧИТЕЛЯ-ПРЕДМЕТН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рректировка программ и тематических план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боты с одарёнными детьми, включение заданий повышенно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ложности, творческого,  научно-исследовательского уровн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здание в учебных кабинетах картотеки материал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ышенного уровня сложност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индивидуальной работы 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ка учащихся к олимпиадам, конкурсам, викторинам,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нференциям различного уровня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бор и оформление в течение года достижений одарённых дете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пополнения «портфеля ученика»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076720" y="0"/>
            <a:ext cx="4067280" cy="254016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ШКОЛЬ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МЕТОДИЧЕСКИЕ ОБЪЕДИН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работка материалов, вопросов и заданий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ышенного уровня сложности по предметам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формление материалов по работе 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диагностики, образцы заданий, результаты олимпиад и т.д.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уководство подготовкой творческих отчётов учителей,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ботающих с одарёнными детьми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нирование и  проведение школьных предметных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лимпиад (ежегодно)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4067280" cy="256536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АДМИНИСТРАЦИЯ ШКОЛЫ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ПСИХОЛОГИЧЕСКАЯ СЛУЖБ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здание фонда поощрения и материального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имулирования одарённых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мощь в разработке индивидуальных образовательных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рамм для одарённых детей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бор диагностических материалов для выявлени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дарённых детей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ведение диагностики. Создание банка данных по одарённым детям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ка методических рекомендаций по работе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пределение критериев эффективности работы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участия детей в школьных, областных и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ероссийских  конкурсах, олимпиадах и т. п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недрение современных ИКТ в образовательный процесс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0.29306 0.31296 E">
                                      <p:cBhvr>
                                        <p:cTn id="5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-0.29097 0.31296 E">
                                      <p:cBhvr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9 L 0.29167 -0.32685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64 -0.00741 L -0.28264 -0.32778 E">
                                      <p:cBhvr>
                                        <p:cTn id="10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2438280" y="1619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18"/>
          <p:cNvSpPr/>
          <p:nvPr/>
        </p:nvSpPr>
        <p:spPr>
          <a:xfrm>
            <a:off x="179280" y="692280"/>
            <a:ext cx="403884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Разработка программы «Диагностик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Скругленный прямоугольник 18"/>
          <p:cNvSpPr/>
          <p:nvPr/>
        </p:nvSpPr>
        <p:spPr>
          <a:xfrm>
            <a:off x="179280" y="1628640"/>
            <a:ext cx="4032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Организация информационно-консультационного сопровождения для учащихся и их родителей.</a:t>
            </a:r>
            <a:r>
              <a:rPr b="0" lang="ru-RU" sz="1800" spc="-1" strike="noStrike">
                <a:solidFill>
                  <a:srgbClr val="00763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18"/>
          <p:cNvSpPr/>
          <p:nvPr/>
        </p:nvSpPr>
        <p:spPr>
          <a:xfrm>
            <a:off x="108000" y="2708280"/>
            <a:ext cx="4032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Разработка на школьных методических объединениях программ работы с одаренными детьми</a:t>
            </a:r>
            <a:r>
              <a:rPr b="0" lang="ru-RU" sz="1600" spc="-1" strike="noStrike">
                <a:solidFill>
                  <a:srgbClr val="00763b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по областям знаний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18"/>
          <p:cNvSpPr/>
          <p:nvPr/>
        </p:nvSpPr>
        <p:spPr>
          <a:xfrm>
            <a:off x="179280" y="3933720"/>
            <a:ext cx="3930840" cy="118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92c"/>
                </a:solidFill>
                <a:latin typeface="Times New Roman"/>
              </a:rPr>
              <a:t>Разработка системы подготовки педагогов для целенаправленной работы с одарёнными детьм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18"/>
          <p:cNvSpPr/>
          <p:nvPr/>
        </p:nvSpPr>
        <p:spPr>
          <a:xfrm>
            <a:off x="108000" y="5373720"/>
            <a:ext cx="4038480" cy="126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Использование возможности сетевого взаимодействия для развития и поддержки творческого потенциала школьников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511280" y="184320"/>
            <a:ext cx="1368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кет рабо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Скругленный прямоугольник 18"/>
          <p:cNvSpPr/>
          <p:nvPr/>
        </p:nvSpPr>
        <p:spPr>
          <a:xfrm>
            <a:off x="5076720" y="692280"/>
            <a:ext cx="3862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Создание банка данных, включающих в себя сведения о детях с различными типами одарённост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Скругленный прямоугольник 18"/>
          <p:cNvSpPr/>
          <p:nvPr/>
        </p:nvSpPr>
        <p:spPr>
          <a:xfrm>
            <a:off x="5076720" y="1700280"/>
            <a:ext cx="3888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Формирование  у родителей мотивации  к работе по развитию способностей</a:t>
            </a:r>
            <a:r>
              <a:rPr b="0" lang="ru-RU" sz="1800" spc="-1" strike="noStrike">
                <a:solidFill>
                  <a:srgbClr val="003b1d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их дет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8"/>
          <p:cNvSpPr/>
          <p:nvPr/>
        </p:nvSpPr>
        <p:spPr>
          <a:xfrm>
            <a:off x="5076720" y="2781360"/>
            <a:ext cx="3888000" cy="96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Создание индивидуализированных образовательных програм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Скругленный прямоугольник 18"/>
          <p:cNvSpPr/>
          <p:nvPr/>
        </p:nvSpPr>
        <p:spPr>
          <a:xfrm>
            <a:off x="5148360" y="4005360"/>
            <a:ext cx="382248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Формирование группы преподавателей для работы с одаренными детьми</a:t>
            </a:r>
            <a:r>
              <a:rPr b="0" lang="ru-RU" sz="1600" spc="-1" strike="noStrike">
                <a:solidFill>
                  <a:srgbClr val="003b1d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5148360" y="5445000"/>
            <a:ext cx="3816360" cy="109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Комплексное развитие личности ребёнк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5651640" y="163440"/>
            <a:ext cx="24494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жидаемый результ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8" name="Стрелка вниз 12"/>
          <p:cNvGrpSpPr/>
          <p:nvPr/>
        </p:nvGrpSpPr>
        <p:grpSpPr>
          <a:xfrm>
            <a:off x="4356000" y="907560"/>
            <a:ext cx="647640" cy="360360"/>
            <a:chOff x="4356000" y="907560"/>
            <a:chExt cx="647640" cy="360360"/>
          </a:xfrm>
        </p:grpSpPr>
        <p:pic>
          <p:nvPicPr>
            <p:cNvPr id="139" name="Стрелка вниз 12" descr=""/>
            <p:cNvPicPr/>
            <p:nvPr/>
          </p:nvPicPr>
          <p:blipFill>
            <a:blip r:embed="rId3"/>
            <a:stretch/>
          </p:blipFill>
          <p:spPr>
            <a:xfrm rot="16200000">
              <a:off x="4499640" y="7639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2"/>
            <p:cNvSpPr/>
            <p:nvPr/>
          </p:nvSpPr>
          <p:spPr>
            <a:xfrm rot="16200000">
              <a:off x="4547880" y="8568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Стрелка вниз 12"/>
          <p:cNvGrpSpPr/>
          <p:nvPr/>
        </p:nvGrpSpPr>
        <p:grpSpPr>
          <a:xfrm>
            <a:off x="4356000" y="1844280"/>
            <a:ext cx="647640" cy="360360"/>
            <a:chOff x="4356000" y="1844280"/>
            <a:chExt cx="647640" cy="360360"/>
          </a:xfrm>
        </p:grpSpPr>
        <p:pic>
          <p:nvPicPr>
            <p:cNvPr id="142" name="Стрелка вниз 12" descr=""/>
            <p:cNvPicPr/>
            <p:nvPr/>
          </p:nvPicPr>
          <p:blipFill>
            <a:blip r:embed="rId4"/>
            <a:stretch/>
          </p:blipFill>
          <p:spPr>
            <a:xfrm rot="16200000">
              <a:off x="4499640" y="1700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5"/>
            <p:cNvSpPr/>
            <p:nvPr/>
          </p:nvSpPr>
          <p:spPr>
            <a:xfrm rot="16200000">
              <a:off x="4547880" y="1793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4" name="Стрелка вниз 12"/>
          <p:cNvGrpSpPr/>
          <p:nvPr/>
        </p:nvGrpSpPr>
        <p:grpSpPr>
          <a:xfrm>
            <a:off x="4356000" y="3141360"/>
            <a:ext cx="647640" cy="360360"/>
            <a:chOff x="4356000" y="3141360"/>
            <a:chExt cx="647640" cy="360360"/>
          </a:xfrm>
        </p:grpSpPr>
        <p:pic>
          <p:nvPicPr>
            <p:cNvPr id="145" name="Стрелка вниз 12" descr=""/>
            <p:cNvPicPr/>
            <p:nvPr/>
          </p:nvPicPr>
          <p:blipFill>
            <a:blip r:embed="rId5"/>
            <a:stretch/>
          </p:blipFill>
          <p:spPr>
            <a:xfrm rot="16200000">
              <a:off x="4499640" y="29977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8"/>
            <p:cNvSpPr/>
            <p:nvPr/>
          </p:nvSpPr>
          <p:spPr>
            <a:xfrm rot="16200000">
              <a:off x="4547880" y="30906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" name="Стрелка вниз 12"/>
          <p:cNvGrpSpPr/>
          <p:nvPr/>
        </p:nvGrpSpPr>
        <p:grpSpPr>
          <a:xfrm>
            <a:off x="4356000" y="4292280"/>
            <a:ext cx="647640" cy="360360"/>
            <a:chOff x="4356000" y="4292280"/>
            <a:chExt cx="647640" cy="360360"/>
          </a:xfrm>
        </p:grpSpPr>
        <p:pic>
          <p:nvPicPr>
            <p:cNvPr id="148" name="Стрелка вниз 12" descr=""/>
            <p:cNvPicPr/>
            <p:nvPr/>
          </p:nvPicPr>
          <p:blipFill>
            <a:blip r:embed="rId6"/>
            <a:stretch/>
          </p:blipFill>
          <p:spPr>
            <a:xfrm rot="16200000">
              <a:off x="4499640" y="4148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1"/>
            <p:cNvSpPr/>
            <p:nvPr/>
          </p:nvSpPr>
          <p:spPr>
            <a:xfrm rot="16200000">
              <a:off x="4547880" y="4241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0" name="Стрелка вниз 12"/>
          <p:cNvGrpSpPr/>
          <p:nvPr/>
        </p:nvGrpSpPr>
        <p:grpSpPr>
          <a:xfrm>
            <a:off x="4427640" y="5733720"/>
            <a:ext cx="647640" cy="360360"/>
            <a:chOff x="4427640" y="5733720"/>
            <a:chExt cx="647640" cy="360360"/>
          </a:xfrm>
        </p:grpSpPr>
        <p:pic>
          <p:nvPicPr>
            <p:cNvPr id="151" name="Стрелка вниз 12" descr=""/>
            <p:cNvPicPr/>
            <p:nvPr/>
          </p:nvPicPr>
          <p:blipFill>
            <a:blip r:embed="rId7"/>
            <a:stretch/>
          </p:blipFill>
          <p:spPr>
            <a:xfrm rot="16200000">
              <a:off x="4571280" y="559008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7"/>
            <p:cNvSpPr/>
            <p:nvPr/>
          </p:nvSpPr>
          <p:spPr>
            <a:xfrm rot="16200000">
              <a:off x="4619520" y="568296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Рисунок1"/>
          <p:cNvPicPr/>
          <p:nvPr/>
        </p:nvPicPr>
        <p:blipFill>
          <a:blip r:embed="rId1"/>
          <a:stretch/>
        </p:blipFill>
        <p:spPr>
          <a:xfrm>
            <a:off x="2438280" y="1619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Скругленный прямоугольник 18"/>
          <p:cNvSpPr/>
          <p:nvPr/>
        </p:nvSpPr>
        <p:spPr>
          <a:xfrm>
            <a:off x="179280" y="836640"/>
            <a:ext cx="4032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92c"/>
                </a:solidFill>
                <a:latin typeface="Times New Roman"/>
              </a:rPr>
              <a:t>Создание развивающей школьной сред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Скругленный прямоугольник 18"/>
          <p:cNvSpPr/>
          <p:nvPr/>
        </p:nvSpPr>
        <p:spPr>
          <a:xfrm>
            <a:off x="179280" y="1773360"/>
            <a:ext cx="403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92c"/>
                </a:solidFill>
                <a:latin typeface="Times New Roman"/>
              </a:rPr>
              <a:t>Поощрение учащихся и преподавателей за высокую результативность в учебной и внеурочной  деятель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Скругленный прямоугольник 18"/>
          <p:cNvSpPr/>
          <p:nvPr/>
        </p:nvSpPr>
        <p:spPr>
          <a:xfrm>
            <a:off x="176040" y="3181320"/>
            <a:ext cx="393084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63b"/>
                </a:solidFill>
                <a:latin typeface="Times New Roman"/>
              </a:rPr>
              <a:t>Развитие системы социального партнёрств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8"/>
          <p:cNvSpPr/>
          <p:nvPr/>
        </p:nvSpPr>
        <p:spPr>
          <a:xfrm>
            <a:off x="179280" y="4508640"/>
            <a:ext cx="4038840" cy="90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63b"/>
                </a:solidFill>
                <a:latin typeface="Times New Roman"/>
              </a:rPr>
              <a:t>Создание современной модели школьного образ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1511280" y="184320"/>
            <a:ext cx="1368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кет рабо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Скругленный прямоугольник 18"/>
          <p:cNvSpPr/>
          <p:nvPr/>
        </p:nvSpPr>
        <p:spPr>
          <a:xfrm>
            <a:off x="5003640" y="836640"/>
            <a:ext cx="3784680" cy="66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Достаточная ресурсная база для реализации ФГОС</a:t>
            </a:r>
            <a:r>
              <a:rPr b="0" lang="ru-RU" sz="1800" spc="-1" strike="noStrike">
                <a:solidFill>
                  <a:srgbClr val="003b1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Скругленный прямоугольник 18"/>
          <p:cNvSpPr/>
          <p:nvPr/>
        </p:nvSpPr>
        <p:spPr>
          <a:xfrm>
            <a:off x="5003640" y="1844640"/>
            <a:ext cx="38102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Формирование мотивации  к дальнейшему развитию лич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Скругленный прямоугольник 18"/>
          <p:cNvSpPr/>
          <p:nvPr/>
        </p:nvSpPr>
        <p:spPr>
          <a:xfrm>
            <a:off x="5003640" y="3213000"/>
            <a:ext cx="38228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Привлечение дополнительных ресурсов для шко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Скругленный прямоугольник 18"/>
          <p:cNvSpPr/>
          <p:nvPr/>
        </p:nvSpPr>
        <p:spPr>
          <a:xfrm>
            <a:off x="5003640" y="4437000"/>
            <a:ext cx="377352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Формирование личности, способной к самообучению и самостоятельно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поисково-исследовательской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деятель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5651640" y="163440"/>
            <a:ext cx="24494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жидаемый результ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5" name="Стрелка вниз 12"/>
          <p:cNvGrpSpPr/>
          <p:nvPr/>
        </p:nvGrpSpPr>
        <p:grpSpPr>
          <a:xfrm>
            <a:off x="4284720" y="1052280"/>
            <a:ext cx="647640" cy="360360"/>
            <a:chOff x="4284720" y="1052280"/>
            <a:chExt cx="647640" cy="360360"/>
          </a:xfrm>
        </p:grpSpPr>
        <p:pic>
          <p:nvPicPr>
            <p:cNvPr id="166" name="Стрелка вниз 12" descr=""/>
            <p:cNvPicPr/>
            <p:nvPr/>
          </p:nvPicPr>
          <p:blipFill>
            <a:blip r:embed="rId3"/>
            <a:stretch/>
          </p:blipFill>
          <p:spPr>
            <a:xfrm rot="16200000">
              <a:off x="4428360" y="908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5"/>
            <p:cNvSpPr/>
            <p:nvPr/>
          </p:nvSpPr>
          <p:spPr>
            <a:xfrm rot="16200000">
              <a:off x="4476600" y="1001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" name="Стрелка вниз 12"/>
          <p:cNvGrpSpPr/>
          <p:nvPr/>
        </p:nvGrpSpPr>
        <p:grpSpPr>
          <a:xfrm>
            <a:off x="4284720" y="2276280"/>
            <a:ext cx="647640" cy="360360"/>
            <a:chOff x="4284720" y="2276280"/>
            <a:chExt cx="647640" cy="360360"/>
          </a:xfrm>
        </p:grpSpPr>
        <p:pic>
          <p:nvPicPr>
            <p:cNvPr id="169" name="Стрелка вниз 12" descr=""/>
            <p:cNvPicPr/>
            <p:nvPr/>
          </p:nvPicPr>
          <p:blipFill>
            <a:blip r:embed="rId4"/>
            <a:stretch/>
          </p:blipFill>
          <p:spPr>
            <a:xfrm rot="16200000">
              <a:off x="4428360" y="2132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28"/>
            <p:cNvSpPr/>
            <p:nvPr/>
          </p:nvSpPr>
          <p:spPr>
            <a:xfrm rot="16200000">
              <a:off x="4476600" y="2225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" name="Стрелка вниз 12"/>
          <p:cNvGrpSpPr/>
          <p:nvPr/>
        </p:nvGrpSpPr>
        <p:grpSpPr>
          <a:xfrm>
            <a:off x="4237200" y="3530160"/>
            <a:ext cx="647640" cy="360360"/>
            <a:chOff x="4237200" y="3530160"/>
            <a:chExt cx="647640" cy="360360"/>
          </a:xfrm>
        </p:grpSpPr>
        <p:pic>
          <p:nvPicPr>
            <p:cNvPr id="172" name="Стрелка вниз 12" descr=""/>
            <p:cNvPicPr/>
            <p:nvPr/>
          </p:nvPicPr>
          <p:blipFill>
            <a:blip r:embed="rId5"/>
            <a:stretch/>
          </p:blipFill>
          <p:spPr>
            <a:xfrm rot="16200000">
              <a:off x="4380840" y="33865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1"/>
            <p:cNvSpPr/>
            <p:nvPr/>
          </p:nvSpPr>
          <p:spPr>
            <a:xfrm rot="16200000">
              <a:off x="4429080" y="34794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4" name="Стрелка вниз 12"/>
          <p:cNvGrpSpPr/>
          <p:nvPr/>
        </p:nvGrpSpPr>
        <p:grpSpPr>
          <a:xfrm>
            <a:off x="4284720" y="4868640"/>
            <a:ext cx="647640" cy="360360"/>
            <a:chOff x="4284720" y="4868640"/>
            <a:chExt cx="647640" cy="360360"/>
          </a:xfrm>
        </p:grpSpPr>
        <p:pic>
          <p:nvPicPr>
            <p:cNvPr id="175" name="Стрелка вниз 12" descr=""/>
            <p:cNvPicPr/>
            <p:nvPr/>
          </p:nvPicPr>
          <p:blipFill>
            <a:blip r:embed="rId6"/>
            <a:stretch/>
          </p:blipFill>
          <p:spPr>
            <a:xfrm rot="16200000">
              <a:off x="4428360" y="472500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7"/>
            <p:cNvSpPr/>
            <p:nvPr/>
          </p:nvSpPr>
          <p:spPr>
            <a:xfrm rot="16200000">
              <a:off x="4476600" y="481788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0:09:57Z</dcterms:created>
  <dc:creator>User</dc:creator>
  <dc:description/>
  <dc:language>en-US</dc:language>
  <cp:lastModifiedBy>G10376</cp:lastModifiedBy>
  <dcterms:modified xsi:type="dcterms:W3CDTF">2014-03-27T12:27:36Z</dcterms:modified>
  <cp:revision>55</cp:revision>
  <dc:subject/>
  <dc:title>РАБОТА С ОДАРЕННЫМИ ДЕТЬ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